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D0D5-7A0C-476B-9FC1-9F7A58E2495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BDB7-1E27-4FFC-ADCF-EEB35C49186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A0F8-E41F-4F20-B132-DFA8FC9D665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C91C-6869-4589-BDC4-6A6EFB682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46B1-AE2B-4267-BC32-D7D5F2DF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BF79-2A3E-4775-AF6C-CCDB27C75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6FF9-82D0-4F8B-A109-E3EABD7FA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59A9-7D49-4DF6-88DF-DE53FBAA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2133-795A-49A0-B945-1C414396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1A95-BD45-45C6-B129-7658263C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3EEE-7C5F-47AF-B412-F20ABE03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D697-5EBF-4803-B2D5-E9650B9A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3365-528C-4DE2-BB88-58453BE4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1356-5D81-4625-8D5D-FAB31DA5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CCDC-38A9-4BEB-BA92-9BED80A9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E8D7-D7A6-4D2F-BE4F-1B3F51167E3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237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0000"/>
                </a:solidFill>
                <a:latin typeface="Calibri"/>
              </a:rPr>
              <a:t>TAURASI VENDEMMIA 200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Sottotitolo 2" descr=""/>
          <p:cNvPicPr/>
          <p:nvPr/>
        </p:nvPicPr>
        <p:blipFill>
          <a:blip r:embed="rId1"/>
          <a:stretch/>
        </p:blipFill>
        <p:spPr>
          <a:xfrm>
            <a:off x="1390680" y="3754440"/>
            <a:ext cx="656424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ttangolo 1"/>
          <p:cNvSpPr/>
          <p:nvPr/>
        </p:nvSpPr>
        <p:spPr>
          <a:xfrm>
            <a:off x="0" y="0"/>
            <a:ext cx="91440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NNATA 2008, DATI CLIMATICI E METEOROLOGIC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nvern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moderatamente freddo e poco piovoso, con isolate giornate di freddo intenso, concentrate nella fase centrale d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febbrai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Calibri"/>
              </a:rPr>
              <a:t>temperature massime costantemente al di sopra dei 10 grad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ppena più tiepido, ma anche decisamente più umido, il mese d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marz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: massime sopra i 15 gradi registrate 14 volte dalla stazione meteorologica d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Mirabella Eclan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(una sopra i 20) 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Calibri"/>
              </a:rPr>
              <a:t>ben 21 giorni con pioggi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per un totale nel mese d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191,6 mm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(a fronte dei 33,6 mm complessivi del bimestre precedente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rimaver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tendenzialment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mit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regolar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con temperature massime stabilmente a ridosso de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20 grad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ad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pril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gradualment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n crescit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durante la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seconda metà di maggi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. Il muro de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30 grad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viene superato per la prima volta il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25 maggi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Calibri"/>
              </a:rPr>
              <a:t>prologo di una settimana di caldo estiv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; più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fresc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iovos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la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rima metà di giugn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. Le precipitazioni sono in linea con le annata vicine, con distribuzione piuttosto regolare: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63 mm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nella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terza decade di marz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78,8 mm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ad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pril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28,4 mm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maggi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60,8 mm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nell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rime due decadi di giugn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’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estat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si apre con l’arrivo dell’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nticiclone delle Azzorr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e condizioni di tempo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stabil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cald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Calibri"/>
              </a:rPr>
              <a:t>specialmente nell’ultima parte di giugn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e nella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Calibri"/>
              </a:rPr>
              <a:t>prima metà di lugli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: dal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17 giugn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al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15 lugli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vengono registrate massime sempre al di sopra de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30 grad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ma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Calibri"/>
              </a:rPr>
              <a:t>solo in cinque occasion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la colonnina supera, di poco, 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35 grad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. E’ una prima parte di estate senza eccessi, non afosa, come confermato dalla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ventilazio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stabilment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ai quadranti occidental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e dalla lettura dell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minime nottur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Calibri"/>
              </a:rPr>
              <a:t>mai sopra i 20 grad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e in diverse occasioni sotto i 15 (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media delle escursioni termiche: 19,2 grad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ttangolo 1"/>
          <p:cNvSpPr/>
          <p:nvPr/>
        </p:nvSpPr>
        <p:spPr>
          <a:xfrm>
            <a:off x="0" y="0"/>
            <a:ext cx="91440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Calibri"/>
              </a:rPr>
              <a:t>lieve calo delle temperatur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sia massime che minime, caratterizza la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seconda metà di lugli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teressato da qualche giorno di pioggia, con precipitazioni di breve intensità (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20,7 mm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registrati nell’intero mese di luglio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gost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è annunciato da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Calibri"/>
              </a:rPr>
              <a:t>una nuova finestra di caldo più intens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ancora una volta mitigato dalle correnti di ponente e da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notti decisamente fresch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. Le temperature massime sono sempre sopra 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30 grad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(con l’eccezione del 16 e 17 agosto),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Calibri"/>
              </a:rPr>
              <a:t>in undici occasioni superano i 35 grad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ma solo il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14 agost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e il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21 agost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vanno oltre 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37 °C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. In compenso il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ifferenziale termic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è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Calibri"/>
              </a:rPr>
              <a:t>tra i più rilevanti dell’ultimo decenni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con minime sempr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sotto i 18 grad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e spesso sotto 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: la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media delle escursion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è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Calibri"/>
              </a:rPr>
              <a:t>superiore ai 18 grad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con il record fatto registrare il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14 agost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(massima 38,3 gradi, minima 14,1, escursione 24,2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 precipitazioni, a carattere temporalesco di breve durata, sono distribuite nella parte centrale e finale del mese, per una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iovosità total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d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8,3 mm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’inizio d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settembr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conferma il trend agostano, con una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Calibri"/>
              </a:rPr>
              <a:t>prima decade più calda ed asciutt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della norma (colonnina sopra i 35 gradi in quattro occasioni), ma sempre bilanciata da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Calibri"/>
              </a:rPr>
              <a:t>notti estremamente fresch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con minime intorno a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15 grad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(punta più bassa: 12,9 gradi il 10 settembre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ambia sensibilmente lo scenario nella parte centrale del mese: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Calibri"/>
              </a:rPr>
              <a:t>le temperature calano bruscamente il giorno 13 settembr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(27 gradi la massima, addirittura 17,0 °C il giorno 24) 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Calibri"/>
              </a:rPr>
              <a:t>non risaliranno mai più oltre i 25,8 grad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fino alla fine della vendemmia. Sempre nella seconda decade di settembre si concentra il grosso delle precipitazioni: i giorni più piovosi sono il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14 settembr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(16,1 mm) e il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19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(14,2 mm). La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iovosità total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nel mese registrata dalla stazione di Mirabella ammonta a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57,3 mm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valore significativamente inferiore alla media dell’ultimo ventenni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ttangolo 2"/>
          <p:cNvSpPr/>
          <p:nvPr/>
        </p:nvSpPr>
        <p:spPr>
          <a:xfrm>
            <a:off x="0" y="0"/>
            <a:ext cx="91440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iù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tiepid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l’ultima parte d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Settembr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con massime a ridosso dei 20 gradi 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Calibri"/>
              </a:rPr>
              <a:t>minime già autunnal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sempre al di sotto de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10 grad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. Le escursioni termiche, più contenute intorno alla metà del mese, si attestano nuovamente sui livelli abituali,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Calibri"/>
              </a:rPr>
              <a:t>tra i 13 e i 15 grad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d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ifferenziale giorno-nott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Ottobr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comincia all’insegna della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variabilità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Calibri"/>
              </a:rPr>
              <a:t>con giornate solari che si alternano ad altre più umide e nuvolos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: il giorno più bagnato è il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3 ottobr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(10,2 mm di pioggia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 temperature massime si mantengono costantemente sopra i 20 gradi e spesso a ridosso dei 25, con le minime praticamente sempre sotto i 10 gradi e, di conseguenza,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Calibri"/>
              </a:rPr>
              <a:t>escursioni termiche stabilmente tra i 15 e i 20 grad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con una punta d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21,6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il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13 ottobr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(massima 26,5 – minima 4,9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ndizioni estremamente favorevoli che si mantengono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stabil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fino agli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Calibri"/>
              </a:rPr>
              <a:t>ultimi giorni del mes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teressati da una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Calibri"/>
              </a:rPr>
              <a:t>piccola finestra di pioggia e caldo umid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. Alla fine di ottobre si registrano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43,1 mm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di pioggia totale, anche in questo caso valore ampiamente inferiore alla media territoriale. La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rima metà di novembr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è per molti versi la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Calibri"/>
              </a:rPr>
              <a:t>naturale appendic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di quanto verificatosi nell’ultima settimana di ottobre: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massim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sempre compres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fra i 15 e i 20 grad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(fino al giorno 5 sopra i 22),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notti fresch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e via via sempre più fredde (2,5 gradi i giorni 11 e 12 novembre),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Calibri"/>
              </a:rPr>
              <a:t>escursioni termiche medie sopra i 10 grad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condizioni variabili con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Calibri"/>
              </a:rPr>
              <a:t>quotidiani piovaschi di breve intensità e durat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(con l’eccezione del 14 novembre che fa registrare 13,2 mm di pioggia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a raccolta dell’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glianic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viene completata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Calibri"/>
              </a:rPr>
              <a:t>nell’arco di circa un mes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a seconda delle zone e delle scelte vendemmiali dei vignerons, tra la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seconda decade di ottobr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e la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metà di novembr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Fattori che influenzano la Produzione Vegetale Agra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441360" y="1523880"/>
            <a:ext cx="832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 produzioni vegetali sono ottenute dalla combinazione di fattori naturali, genetici e antropici: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523880" y="2646360"/>
            <a:ext cx="524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it-IT" sz="1800" spc="-1" strike="noStrike">
                <a:solidFill>
                  <a:srgbClr val="4f81bd"/>
                </a:solidFill>
                <a:latin typeface="Calibri"/>
              </a:rPr>
              <a:t>Natural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= caratteristiche ambientali (clima e terren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15960" y="3290760"/>
            <a:ext cx="81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it-IT" sz="1800" spc="-1" strike="noStrike">
                <a:solidFill>
                  <a:srgbClr val="4f81bd"/>
                </a:solidFill>
                <a:latin typeface="Calibri"/>
              </a:rPr>
              <a:t>Genetic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= caratteristiche delle specie e cultivar , portainnesto , clone per la vit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43000" y="414828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1746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f81bd"/>
                </a:solidFill>
                <a:latin typeface="Times New Roman"/>
              </a:rPr>
              <a:t>Antropic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= tutto ciò che l’uomo è in grado di realizzare per  migliorare le condizioni di vita delle piant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64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TEMPERATU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349200" y="1916280"/>
            <a:ext cx="839304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nfluenza tutte le reazioni biochimiche delle piante e la loro intensità: </a:t>
            </a:r>
            <a:r>
              <a:rPr b="0" lang="it-IT" sz="1800" spc="-1" strike="noStrike">
                <a:solidFill>
                  <a:srgbClr val="66ff33"/>
                </a:solidFill>
                <a:latin typeface="Calibri"/>
              </a:rPr>
              <a:t>Traspirazio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it-IT" sz="1800" spc="-1" strike="noStrike">
                <a:solidFill>
                  <a:srgbClr val="0000ff"/>
                </a:solidFill>
                <a:latin typeface="Calibri"/>
              </a:rPr>
              <a:t>Respirazio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it-IT" sz="1800" spc="-1" strike="noStrike">
                <a:solidFill>
                  <a:srgbClr val="c0504d"/>
                </a:solidFill>
                <a:latin typeface="Calibri"/>
              </a:rPr>
              <a:t>Fotosintes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it-IT" sz="1800" spc="-1" strike="noStrike">
                <a:solidFill>
                  <a:srgbClr val="cc6600"/>
                </a:solidFill>
                <a:latin typeface="Calibri"/>
              </a:rPr>
              <a:t>Att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it-IT" sz="1800" spc="-1" strike="noStrike">
                <a:solidFill>
                  <a:srgbClr val="cc6600"/>
                </a:solidFill>
                <a:latin typeface="Calibri"/>
              </a:rPr>
              <a:t>enzimatic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it-IT" sz="1800" spc="-1" strike="noStrike">
                <a:solidFill>
                  <a:srgbClr val="66ff33"/>
                </a:solidFill>
                <a:latin typeface="Calibri"/>
              </a:rPr>
              <a:t>Sintesi della clorofill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it-IT" sz="1800" spc="-1" strike="noStrike">
                <a:solidFill>
                  <a:srgbClr val="ff00ff"/>
                </a:solidFill>
                <a:latin typeface="Calibri"/>
              </a:rPr>
              <a:t>Divisione cellular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ecc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14360" y="3122640"/>
            <a:ext cx="80438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Questi processi non avvengono quando si superano, </a:t>
            </a:r>
            <a:r>
              <a:rPr b="0" lang="it-IT" sz="1800" spc="-1" strike="noStrike">
                <a:solidFill>
                  <a:srgbClr val="c0504d"/>
                </a:solidFill>
                <a:latin typeface="Calibri"/>
              </a:rPr>
              <a:t>in eccesso o in difett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 limiti termici. Tali limiti sono caratteristici della specie, della cultivar e della fase di crescita in cui si trova la coltur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414360" y="1197000"/>
            <a:ext cx="844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a Temperatura è la manifestazione sensibile del </a:t>
            </a:r>
            <a:r>
              <a:rPr b="0" i="1" lang="it-IT" sz="1800" spc="-1" strike="noStrike">
                <a:solidFill>
                  <a:srgbClr val="000000"/>
                </a:solidFill>
                <a:latin typeface="Calibri"/>
              </a:rPr>
              <a:t>calor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varia in funzione della </a:t>
            </a:r>
            <a:r>
              <a:rPr b="0" lang="it-IT" sz="1800" spc="-1" strike="noStrike">
                <a:solidFill>
                  <a:srgbClr val="4f81bd"/>
                </a:solidFill>
                <a:latin typeface="Calibri"/>
              </a:rPr>
              <a:t>radiazio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e diminuisce all’aumentare </a:t>
            </a:r>
            <a:r>
              <a:rPr b="0" lang="it-IT" sz="1800" spc="-1" strike="noStrike">
                <a:solidFill>
                  <a:srgbClr val="c0504d"/>
                </a:solidFill>
                <a:latin typeface="Calibri"/>
              </a:rPr>
              <a:t>dell’altitudi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Calibri"/>
              </a:rPr>
              <a:t>in media circa 0.6 °C ogni 100 m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028"/>
          <p:cNvSpPr/>
          <p:nvPr/>
        </p:nvSpPr>
        <p:spPr>
          <a:xfrm>
            <a:off x="414360" y="4429080"/>
            <a:ext cx="84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a Temperatura influenza i processi di biologici e, pertanto, si riflette sull’accrescimento e sulla produttività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asellaDiTesto 7"/>
          <p:cNvSpPr/>
          <p:nvPr/>
        </p:nvSpPr>
        <p:spPr>
          <a:xfrm>
            <a:off x="414360" y="5284800"/>
            <a:ext cx="855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0504d"/>
                </a:solidFill>
                <a:latin typeface="Calibri"/>
              </a:rPr>
              <a:t>T. Ottimale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= per la maggior parte delle specie coltivate in Italia è compresa tra 20 – 25°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er le specie di origine tropicale (es. Mais) sale a oltre 30 °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PIOGG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250920" y="90792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è la principale fonte di acqua per l’agricoltura – parametro climatico fondamentale per definire l’idoneità del clima alla produzione vegetale -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324000" y="508464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0504d"/>
                </a:solidFill>
                <a:latin typeface="Calibri"/>
              </a:rPr>
              <a:t>Pioggia Util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= frazione di pioggia che può essere utilizzata dalle piante: varia in relazione a molti fattori (es.: intensità di P., tipo di terreno, coltura,  umidità del suolo, ecc..). </a:t>
            </a:r>
            <a:r>
              <a:rPr b="0" lang="it-IT" sz="1800" spc="-1" strike="noStrike">
                <a:solidFill>
                  <a:srgbClr val="66ff33"/>
                </a:solidFill>
                <a:latin typeface="Calibri"/>
              </a:rPr>
              <a:t>In genere utile se &gt; 10 mm in 24 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Group 19"/>
          <p:cNvGrpSpPr/>
          <p:nvPr/>
        </p:nvGrpSpPr>
        <p:grpSpPr>
          <a:xfrm>
            <a:off x="152280" y="2819520"/>
            <a:ext cx="1904760" cy="1981080"/>
            <a:chOff x="152280" y="2819520"/>
            <a:chExt cx="1904760" cy="1981080"/>
          </a:xfrm>
        </p:grpSpPr>
        <p:sp>
          <p:nvSpPr>
            <p:cNvPr id="65" name="Text Box 6"/>
            <p:cNvSpPr/>
            <p:nvPr/>
          </p:nvSpPr>
          <p:spPr>
            <a:xfrm>
              <a:off x="438120" y="2895480"/>
              <a:ext cx="84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 u="sng">
                  <a:solidFill>
                    <a:srgbClr val="c0504d"/>
                  </a:solidFill>
                  <a:uFillTx/>
                  <a:latin typeface="Calibri"/>
                </a:rPr>
                <a:t>Altezz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Text Box 10"/>
            <p:cNvSpPr/>
            <p:nvPr/>
          </p:nvSpPr>
          <p:spPr>
            <a:xfrm>
              <a:off x="228240" y="3429000"/>
              <a:ext cx="1828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alibri"/>
                </a:rPr>
                <a:t>Quantità di acqua caduta in un evento (mm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>
              <a:off x="152280" y="2819520"/>
              <a:ext cx="1904760" cy="1981080"/>
            </a:xfrm>
            <a:prstGeom prst="rect">
              <a:avLst/>
            </a:prstGeom>
            <a:noFill/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20"/>
          <p:cNvGrpSpPr/>
          <p:nvPr/>
        </p:nvGrpSpPr>
        <p:grpSpPr>
          <a:xfrm>
            <a:off x="2209680" y="2819520"/>
            <a:ext cx="2133720" cy="1981080"/>
            <a:chOff x="2209680" y="2819520"/>
            <a:chExt cx="2133720" cy="1981080"/>
          </a:xfrm>
        </p:grpSpPr>
        <p:sp>
          <p:nvSpPr>
            <p:cNvPr id="69" name="Text Box 7"/>
            <p:cNvSpPr/>
            <p:nvPr/>
          </p:nvSpPr>
          <p:spPr>
            <a:xfrm>
              <a:off x="2555280" y="2895480"/>
              <a:ext cx="99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 u="sng">
                  <a:solidFill>
                    <a:srgbClr val="c0504d"/>
                  </a:solidFill>
                  <a:uFillTx/>
                  <a:latin typeface="Calibri"/>
                </a:rPr>
                <a:t>Intensit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Text Box 11"/>
            <p:cNvSpPr/>
            <p:nvPr/>
          </p:nvSpPr>
          <p:spPr>
            <a:xfrm>
              <a:off x="2209680" y="3429000"/>
              <a:ext cx="21337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alibri"/>
                </a:rPr>
                <a:t>Quantità di acqua caduta nell’unità di tempo (mm/h) – erosione -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16"/>
            <p:cNvSpPr/>
            <p:nvPr/>
          </p:nvSpPr>
          <p:spPr>
            <a:xfrm>
              <a:off x="2209680" y="2819520"/>
              <a:ext cx="2133720" cy="1981080"/>
            </a:xfrm>
            <a:prstGeom prst="rect">
              <a:avLst/>
            </a:prstGeom>
            <a:noFill/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21"/>
          <p:cNvGrpSpPr/>
          <p:nvPr/>
        </p:nvGrpSpPr>
        <p:grpSpPr>
          <a:xfrm>
            <a:off x="4572000" y="2819520"/>
            <a:ext cx="2133720" cy="1981080"/>
            <a:chOff x="4572000" y="2819520"/>
            <a:chExt cx="2133720" cy="1981080"/>
          </a:xfrm>
        </p:grpSpPr>
        <p:sp>
          <p:nvSpPr>
            <p:cNvPr id="73" name="Text Box 8"/>
            <p:cNvSpPr/>
            <p:nvPr/>
          </p:nvSpPr>
          <p:spPr>
            <a:xfrm>
              <a:off x="4721040" y="2895480"/>
              <a:ext cx="115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 u="sng">
                  <a:solidFill>
                    <a:srgbClr val="c0504d"/>
                  </a:solidFill>
                  <a:uFillTx/>
                  <a:latin typeface="Calibri"/>
                </a:rPr>
                <a:t>Frequenz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Text Box 12"/>
            <p:cNvSpPr/>
            <p:nvPr/>
          </p:nvSpPr>
          <p:spPr>
            <a:xfrm>
              <a:off x="4648320" y="3429000"/>
              <a:ext cx="1828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alibri"/>
                </a:rPr>
                <a:t>n° di giorni piovosi in un periodo (anno, mese, ecc.)</a:t>
              </a:r>
              <a:r>
                <a:rPr b="0" lang="it-IT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17"/>
            <p:cNvSpPr/>
            <p:nvPr/>
          </p:nvSpPr>
          <p:spPr>
            <a:xfrm>
              <a:off x="4572000" y="2819520"/>
              <a:ext cx="2133720" cy="1981080"/>
            </a:xfrm>
            <a:prstGeom prst="rect">
              <a:avLst/>
            </a:prstGeom>
            <a:noFill/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22"/>
          <p:cNvGrpSpPr/>
          <p:nvPr/>
        </p:nvGrpSpPr>
        <p:grpSpPr>
          <a:xfrm>
            <a:off x="6842160" y="2819520"/>
            <a:ext cx="2301840" cy="1981080"/>
            <a:chOff x="6842160" y="2819520"/>
            <a:chExt cx="2301840" cy="1981080"/>
          </a:xfrm>
        </p:grpSpPr>
        <p:sp>
          <p:nvSpPr>
            <p:cNvPr id="77" name="Text Box 9"/>
            <p:cNvSpPr/>
            <p:nvPr/>
          </p:nvSpPr>
          <p:spPr>
            <a:xfrm>
              <a:off x="7239240" y="2895480"/>
              <a:ext cx="145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 u="sng">
                  <a:solidFill>
                    <a:srgbClr val="c0504d"/>
                  </a:solidFill>
                  <a:uFillTx/>
                  <a:latin typeface="Calibri"/>
                </a:rPr>
                <a:t>Distribuzione</a:t>
              </a:r>
              <a:r>
                <a:rPr b="0" lang="it-IT" sz="1800" spc="-1" strike="noStrike">
                  <a:solidFill>
                    <a:srgbClr val="c0504d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Text Box 13"/>
            <p:cNvSpPr/>
            <p:nvPr/>
          </p:nvSpPr>
          <p:spPr>
            <a:xfrm>
              <a:off x="6842160" y="3429000"/>
              <a:ext cx="23018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alibri"/>
                </a:rPr>
                <a:t>Periodi di pioggia, (caratteristica di un ambiente)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858000" y="2819520"/>
              <a:ext cx="2133720" cy="1981080"/>
            </a:xfrm>
            <a:prstGeom prst="rect">
              <a:avLst/>
            </a:prstGeom>
            <a:noFill/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Group 25"/>
          <p:cNvGrpSpPr/>
          <p:nvPr/>
        </p:nvGrpSpPr>
        <p:grpSpPr>
          <a:xfrm>
            <a:off x="1747800" y="2103480"/>
            <a:ext cx="5648040" cy="539280"/>
            <a:chOff x="1747800" y="2103480"/>
            <a:chExt cx="5648040" cy="539280"/>
          </a:xfrm>
        </p:grpSpPr>
        <p:sp>
          <p:nvSpPr>
            <p:cNvPr id="81" name="Text Box 5"/>
            <p:cNvSpPr/>
            <p:nvPr/>
          </p:nvSpPr>
          <p:spPr>
            <a:xfrm>
              <a:off x="2957040" y="2103480"/>
              <a:ext cx="339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</a:rPr>
                <a:t>Si definiscono i seguenti parametr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AutoShape 23"/>
            <p:cNvSpPr/>
            <p:nvPr/>
          </p:nvSpPr>
          <p:spPr>
            <a:xfrm rot="5505000">
              <a:off x="7047360" y="2292840"/>
              <a:ext cx="304920" cy="382680"/>
            </a:xfrm>
            <a:custGeom>
              <a:avLst/>
              <a:gdLst>
                <a:gd name="textAreaLeft" fmla="*/ 174600 w 304920"/>
                <a:gd name="textAreaRight" fmla="*/ 273240 w 304920"/>
                <a:gd name="textAreaTop" fmla="*/ 81000 h 382680"/>
                <a:gd name="textAreaBottom" fmla="*/ 135000 h 38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2427" y="0"/>
                  </a:lnTo>
                  <a:lnTo>
                    <a:pt x="12427" y="4564"/>
                  </a:lnTo>
                  <a:cubicBezTo>
                    <a:pt x="5564" y="4564"/>
                    <a:pt x="0" y="7964"/>
                    <a:pt x="0" y="12158"/>
                  </a:cubicBezTo>
                  <a:lnTo>
                    <a:pt x="0" y="21600"/>
                  </a:lnTo>
                  <a:lnTo>
                    <a:pt x="3097" y="21600"/>
                  </a:lnTo>
                  <a:lnTo>
                    <a:pt x="3097" y="12158"/>
                  </a:lnTo>
                  <a:cubicBezTo>
                    <a:pt x="3097" y="9637"/>
                    <a:pt x="7274" y="7594"/>
                    <a:pt x="12427" y="7594"/>
                  </a:cubicBezTo>
                  <a:lnTo>
                    <a:pt x="12427" y="12158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AutoShape 24"/>
            <p:cNvSpPr/>
            <p:nvPr/>
          </p:nvSpPr>
          <p:spPr>
            <a:xfrm flipV="1" rot="5505600">
              <a:off x="1791000" y="2292840"/>
              <a:ext cx="304920" cy="382320"/>
            </a:xfrm>
            <a:custGeom>
              <a:avLst/>
              <a:gdLst>
                <a:gd name="textAreaLeft" fmla="*/ 174600 w 304920"/>
                <a:gd name="textAreaRight" fmla="*/ 273240 w 304920"/>
                <a:gd name="textAreaTop" fmla="*/ 80640 h 382320"/>
                <a:gd name="textAreaBottom" fmla="*/ 134640 h 38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2427" y="0"/>
                  </a:lnTo>
                  <a:lnTo>
                    <a:pt x="12427" y="4564"/>
                  </a:lnTo>
                  <a:cubicBezTo>
                    <a:pt x="5564" y="4564"/>
                    <a:pt x="0" y="7964"/>
                    <a:pt x="0" y="12158"/>
                  </a:cubicBezTo>
                  <a:lnTo>
                    <a:pt x="0" y="21600"/>
                  </a:lnTo>
                  <a:lnTo>
                    <a:pt x="3097" y="21600"/>
                  </a:lnTo>
                  <a:lnTo>
                    <a:pt x="3097" y="12158"/>
                  </a:lnTo>
                  <a:cubicBezTo>
                    <a:pt x="3097" y="9637"/>
                    <a:pt x="7274" y="7594"/>
                    <a:pt x="12427" y="7594"/>
                  </a:cubicBezTo>
                  <a:lnTo>
                    <a:pt x="12427" y="12158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0" y="6170400"/>
            <a:ext cx="4903920" cy="647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TAZIONI METEREOLOGI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5518440"/>
          </a:xfrm>
          <a:prstGeom prst="rect">
            <a:avLst/>
          </a:prstGeom>
          <a:ln w="0">
            <a:noFill/>
          </a:ln>
        </p:spPr>
      </p:pic>
      <p:cxnSp>
        <p:nvCxnSpPr>
          <p:cNvPr id="86" name="Connettore 4 6"/>
          <p:cNvCxnSpPr/>
          <p:nvPr/>
        </p:nvCxnSpPr>
        <p:spPr>
          <a:xfrm rot="5400000">
            <a:off x="2577240" y="3998880"/>
            <a:ext cx="1928160" cy="1540800"/>
          </a:xfrm>
          <a:prstGeom prst="bentConnector3">
            <a:avLst>
              <a:gd name="adj1" fmla="val 4999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7" name="Stella a 5 punte 7"/>
          <p:cNvSpPr/>
          <p:nvPr/>
        </p:nvSpPr>
        <p:spPr>
          <a:xfrm>
            <a:off x="3851280" y="2787480"/>
            <a:ext cx="460440" cy="287640"/>
          </a:xfrm>
          <a:custGeom>
            <a:avLst/>
            <a:gdLst>
              <a:gd name="textAreaLeft" fmla="*/ 142200 w 460440"/>
              <a:gd name="textAreaRight" fmla="*/ 318240 w 460440"/>
              <a:gd name="textAreaTop" fmla="*/ 109800 h 287640"/>
              <a:gd name="textAreaBottom" fmla="*/ 219960 h 287640"/>
            </a:gdLst>
            <a:ahLst/>
            <a:rect l="textAreaLeft" t="textAreaTop" r="textAreaRight" b="textAreaBottom"/>
            <a:pathLst>
              <a:path w="459758" h="288032">
                <a:moveTo>
                  <a:pt x="1" y="110018"/>
                </a:moveTo>
                <a:lnTo>
                  <a:pt x="175613" y="110019"/>
                </a:lnTo>
                <a:lnTo>
                  <a:pt x="229879" y="0"/>
                </a:lnTo>
                <a:lnTo>
                  <a:pt x="284145" y="110019"/>
                </a:lnTo>
                <a:lnTo>
                  <a:pt x="459757" y="110018"/>
                </a:lnTo>
                <a:lnTo>
                  <a:pt x="317683" y="178013"/>
                </a:lnTo>
                <a:lnTo>
                  <a:pt x="371952" y="288031"/>
                </a:lnTo>
                <a:lnTo>
                  <a:pt x="229879" y="220035"/>
                </a:lnTo>
                <a:lnTo>
                  <a:pt x="87806" y="288031"/>
                </a:lnTo>
                <a:lnTo>
                  <a:pt x="142075" y="178013"/>
                </a:lnTo>
                <a:close/>
              </a:path>
            </a:pathLst>
          </a:custGeom>
          <a:solidFill>
            <a:srgbClr val="ddd9c3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tella a 5 punte 8"/>
          <p:cNvSpPr/>
          <p:nvPr/>
        </p:nvSpPr>
        <p:spPr>
          <a:xfrm>
            <a:off x="1606680" y="1886040"/>
            <a:ext cx="457200" cy="287280"/>
          </a:xfrm>
          <a:custGeom>
            <a:avLst/>
            <a:gdLst>
              <a:gd name="textAreaLeft" fmla="*/ 141120 w 457200"/>
              <a:gd name="textAreaRight" fmla="*/ 316080 w 45720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457200" h="288032">
                <a:moveTo>
                  <a:pt x="0" y="110018"/>
                </a:moveTo>
                <a:lnTo>
                  <a:pt x="174636" y="110019"/>
                </a:lnTo>
                <a:lnTo>
                  <a:pt x="228600" y="0"/>
                </a:lnTo>
                <a:lnTo>
                  <a:pt x="282564" y="110019"/>
                </a:lnTo>
                <a:lnTo>
                  <a:pt x="457200" y="110018"/>
                </a:lnTo>
                <a:lnTo>
                  <a:pt x="315916" y="178013"/>
                </a:lnTo>
                <a:lnTo>
                  <a:pt x="369883" y="288031"/>
                </a:lnTo>
                <a:lnTo>
                  <a:pt x="228600" y="220035"/>
                </a:lnTo>
                <a:lnTo>
                  <a:pt x="87317" y="288031"/>
                </a:lnTo>
                <a:lnTo>
                  <a:pt x="141284" y="178013"/>
                </a:lnTo>
                <a:close/>
              </a:path>
            </a:pathLst>
          </a:custGeom>
          <a:solidFill>
            <a:srgbClr val="ddd9c3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tella a 5 punte 9"/>
          <p:cNvSpPr/>
          <p:nvPr/>
        </p:nvSpPr>
        <p:spPr>
          <a:xfrm>
            <a:off x="4976640" y="1519200"/>
            <a:ext cx="373320" cy="298440"/>
          </a:xfrm>
          <a:custGeom>
            <a:avLst/>
            <a:gdLst>
              <a:gd name="textAreaLeft" fmla="*/ 115200 w 373320"/>
              <a:gd name="textAreaRight" fmla="*/ 258120 w 373320"/>
              <a:gd name="textAreaTop" fmla="*/ 114120 h 298440"/>
              <a:gd name="textAreaBottom" fmla="*/ 228240 h 298440"/>
            </a:gdLst>
            <a:ahLst/>
            <a:rect l="textAreaLeft" t="textAreaTop" r="textAreaRight" b="textAreaBottom"/>
            <a:pathLst>
              <a:path w="372616" h="298795">
                <a:moveTo>
                  <a:pt x="0" y="114129"/>
                </a:moveTo>
                <a:lnTo>
                  <a:pt x="142327" y="114130"/>
                </a:lnTo>
                <a:lnTo>
                  <a:pt x="186308" y="0"/>
                </a:lnTo>
                <a:lnTo>
                  <a:pt x="230289" y="114130"/>
                </a:lnTo>
                <a:lnTo>
                  <a:pt x="372616" y="114129"/>
                </a:lnTo>
                <a:lnTo>
                  <a:pt x="257470" y="184665"/>
                </a:lnTo>
                <a:lnTo>
                  <a:pt x="301453" y="298794"/>
                </a:lnTo>
                <a:lnTo>
                  <a:pt x="186308" y="228257"/>
                </a:lnTo>
                <a:lnTo>
                  <a:pt x="71163" y="298794"/>
                </a:lnTo>
                <a:lnTo>
                  <a:pt x="115146" y="184665"/>
                </a:lnTo>
                <a:close/>
              </a:path>
            </a:pathLst>
          </a:custGeom>
          <a:solidFill>
            <a:srgbClr val="ddd9c3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ella a 5 punte 10"/>
          <p:cNvSpPr/>
          <p:nvPr/>
        </p:nvSpPr>
        <p:spPr>
          <a:xfrm>
            <a:off x="6240600" y="4292640"/>
            <a:ext cx="372960" cy="288720"/>
          </a:xfrm>
          <a:custGeom>
            <a:avLst/>
            <a:gdLst>
              <a:gd name="textAreaLeft" fmla="*/ 115200 w 372960"/>
              <a:gd name="textAreaRight" fmla="*/ 257760 w 37296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372616" h="288032">
                <a:moveTo>
                  <a:pt x="0" y="110018"/>
                </a:moveTo>
                <a:lnTo>
                  <a:pt x="142327" y="110019"/>
                </a:lnTo>
                <a:lnTo>
                  <a:pt x="186308" y="0"/>
                </a:lnTo>
                <a:lnTo>
                  <a:pt x="230289" y="110019"/>
                </a:lnTo>
                <a:lnTo>
                  <a:pt x="372616" y="110018"/>
                </a:lnTo>
                <a:lnTo>
                  <a:pt x="257470" y="178013"/>
                </a:lnTo>
                <a:lnTo>
                  <a:pt x="301453" y="288031"/>
                </a:lnTo>
                <a:lnTo>
                  <a:pt x="186308" y="220035"/>
                </a:lnTo>
                <a:lnTo>
                  <a:pt x="71163" y="288031"/>
                </a:lnTo>
                <a:lnTo>
                  <a:pt x="115146" y="178013"/>
                </a:lnTo>
                <a:close/>
              </a:path>
            </a:pathLst>
          </a:custGeom>
          <a:solidFill>
            <a:srgbClr val="ddd9c3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1" name="Connettore 4 14"/>
          <p:cNvCxnSpPr/>
          <p:nvPr/>
        </p:nvCxnSpPr>
        <p:spPr>
          <a:xfrm rot="5400000">
            <a:off x="5146920" y="4453560"/>
            <a:ext cx="1297800" cy="12643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Connettore 4 17"/>
          <p:cNvCxnSpPr>
            <a:stCxn id="88" idx="2"/>
          </p:cNvCxnSpPr>
          <p:nvPr/>
        </p:nvCxnSpPr>
        <p:spPr>
          <a:xfrm rot="5400000">
            <a:off x="-129960" y="3909240"/>
            <a:ext cx="3560040" cy="87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Connettore 4 19"/>
          <p:cNvCxnSpPr/>
          <p:nvPr/>
        </p:nvCxnSpPr>
        <p:spPr>
          <a:xfrm rot="5400000">
            <a:off x="2475000" y="3043440"/>
            <a:ext cx="4064400" cy="1313640"/>
          </a:xfrm>
          <a:prstGeom prst="bentConnector3">
            <a:avLst>
              <a:gd name="adj1" fmla="val 49995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Segnaposto contenuto 4" descr=""/>
          <p:cNvPicPr/>
          <p:nvPr/>
        </p:nvPicPr>
        <p:blipFill>
          <a:blip r:embed="rId1"/>
          <a:stretch/>
        </p:blipFill>
        <p:spPr>
          <a:xfrm>
            <a:off x="-6480" y="2200320"/>
            <a:ext cx="9156960" cy="466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52560" y="115920"/>
          <a:ext cx="9037440" cy="1954080"/>
        </p:xfrm>
        <a:graphic>
          <a:graphicData uri="http://schemas.openxmlformats.org/drawingml/2006/table">
            <a:tbl>
              <a:tblPr/>
              <a:tblGrid>
                <a:gridCol w="1174680"/>
                <a:gridCol w="117360"/>
                <a:gridCol w="644400"/>
                <a:gridCol w="646200"/>
                <a:gridCol w="644400"/>
                <a:gridCol w="646200"/>
                <a:gridCol w="644760"/>
                <a:gridCol w="645840"/>
                <a:gridCol w="646200"/>
                <a:gridCol w="644400"/>
                <a:gridCol w="646200"/>
                <a:gridCol w="644760"/>
                <a:gridCol w="645840"/>
                <a:gridCol w="646200"/>
              </a:tblGrid>
              <a:tr h="426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8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FRONTO TEMPERATURE MEDIE MINIME 20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na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bbra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z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r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gg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ug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gl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tem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to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cem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P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7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TEFUS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8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RABEL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7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TEMARA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Grafico 1" descr=""/>
          <p:cNvPicPr/>
          <p:nvPr/>
        </p:nvPicPr>
        <p:blipFill>
          <a:blip r:embed="rId1"/>
          <a:stretch/>
        </p:blipFill>
        <p:spPr>
          <a:xfrm>
            <a:off x="-6480" y="1908000"/>
            <a:ext cx="9156960" cy="4778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08000" y="115920"/>
          <a:ext cx="9036000" cy="1717560"/>
        </p:xfrm>
        <a:graphic>
          <a:graphicData uri="http://schemas.openxmlformats.org/drawingml/2006/table">
            <a:tbl>
              <a:tblPr/>
              <a:tblGrid>
                <a:gridCol w="1224000"/>
                <a:gridCol w="66600"/>
                <a:gridCol w="644400"/>
                <a:gridCol w="646200"/>
                <a:gridCol w="646200"/>
                <a:gridCol w="644400"/>
                <a:gridCol w="646200"/>
                <a:gridCol w="644400"/>
                <a:gridCol w="646200"/>
                <a:gridCol w="646200"/>
                <a:gridCol w="644400"/>
                <a:gridCol w="646200"/>
                <a:gridCol w="644400"/>
                <a:gridCol w="646200"/>
              </a:tblGrid>
              <a:tr h="257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9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FRONTO TEMPERATURE MEDIE MASSIME 20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4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3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na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bbra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z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r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gg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ug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gl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tem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to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cem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4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P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3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TEFUS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1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RABEL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3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TEMARA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Grafico 1" descr=""/>
          <p:cNvPicPr/>
          <p:nvPr/>
        </p:nvPicPr>
        <p:blipFill>
          <a:blip r:embed="rId1"/>
          <a:stretch/>
        </p:blipFill>
        <p:spPr>
          <a:xfrm>
            <a:off x="-85680" y="2200320"/>
            <a:ext cx="9156600" cy="502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108000" y="0"/>
          <a:ext cx="8928000" cy="2376360"/>
        </p:xfrm>
        <a:graphic>
          <a:graphicData uri="http://schemas.openxmlformats.org/drawingml/2006/table">
            <a:tbl>
              <a:tblPr/>
              <a:tblGrid>
                <a:gridCol w="1627200"/>
                <a:gridCol w="1598400"/>
                <a:gridCol w="1346400"/>
                <a:gridCol w="2000160"/>
                <a:gridCol w="2355840"/>
              </a:tblGrid>
              <a:tr h="177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RABEL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P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TEFUS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TEMAR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NA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.p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4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BBRA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.p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7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Z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.p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R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7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GG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7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UG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GL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7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TEMB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7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TOB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7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CEMB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0" y="0"/>
          <a:ext cx="9036000" cy="2927520"/>
        </p:xfrm>
        <a:graphic>
          <a:graphicData uri="http://schemas.openxmlformats.org/drawingml/2006/table">
            <a:tbl>
              <a:tblPr/>
              <a:tblGrid>
                <a:gridCol w="1116000"/>
                <a:gridCol w="71280"/>
                <a:gridCol w="717840"/>
                <a:gridCol w="635040"/>
                <a:gridCol w="633240"/>
                <a:gridCol w="635040"/>
                <a:gridCol w="635040"/>
                <a:gridCol w="635040"/>
                <a:gridCol w="635040"/>
                <a:gridCol w="634680"/>
                <a:gridCol w="714600"/>
                <a:gridCol w="635040"/>
                <a:gridCol w="703080"/>
                <a:gridCol w="635040"/>
              </a:tblGrid>
              <a:tr h="3596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12"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FRONTO TEMPERATURE MEDIE MASSIME E MINIM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16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4"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 MEDIE MASSIME MENSI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na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bbra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z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r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gg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ug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gl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tem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to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cem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P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90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TEFUS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04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RABEL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04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TEMARA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188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 MEDIE MINIME  MENSI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na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bbra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z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r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gg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ug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gl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tem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to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cem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16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P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04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TEFUS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04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RABEL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90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TEMARA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02" name="Segnaposto contenuto 6" descr=""/>
          <p:cNvPicPr/>
          <p:nvPr/>
        </p:nvPicPr>
        <p:blipFill>
          <a:blip r:embed="rId1"/>
          <a:stretch/>
        </p:blipFill>
        <p:spPr>
          <a:xfrm>
            <a:off x="-6480" y="2919240"/>
            <a:ext cx="9047160" cy="39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7:43:28Z</dcterms:created>
  <dc:creator>Giusy</dc:creator>
  <dc:description/>
  <dc:language>en-US</dc:language>
  <cp:lastModifiedBy>pc1</cp:lastModifiedBy>
  <dcterms:modified xsi:type="dcterms:W3CDTF">2012-01-23T17:36:55Z</dcterms:modified>
  <cp:revision>24</cp:revision>
  <dc:subject/>
  <dc:title>Presentazione standard di PowerPoint</dc:title>
</cp:coreProperties>
</file>